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A78-791B-4202-9F8E-2BE61F3D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CBA-2DA2-4A72-A380-22D11729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DBD-ABC5-47AC-B171-9CC08842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923-DF75-401F-833F-9BC142E2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C25-93B1-4A3F-B3C3-2EE7C834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F36-ABA5-4285-944C-59D391C9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B9F-13BA-4304-938A-7F5A75A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44A-1CAD-46AD-A692-969C3C74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1B6-108F-445C-A799-FD3A54F4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18A-5C23-4736-97B1-6C41E2D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02A-0CCD-4964-8862-D1AECE3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021-0929-4301-B612-7A90CEA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7AE-C0A6-4BB0-9706-6791A98F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87840" y="2765520"/>
            <a:ext cx="5456160" cy="409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26028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design interesting pictures with 10 do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05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anish flag is red and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8667" b="0"/>
          <a:stretch/>
        </p:blipFill>
        <p:spPr>
          <a:xfrm>
            <a:off x="3456000" y="2187720"/>
            <a:ext cx="5688000" cy="467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18614" b="0"/>
          <a:stretch/>
        </p:blipFill>
        <p:spPr>
          <a:xfrm>
            <a:off x="0" y="0"/>
            <a:ext cx="4248000" cy="39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602136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write and read numbers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8243" t="0" r="10949" b="0"/>
          <a:stretch/>
        </p:blipFill>
        <p:spPr>
          <a:xfrm>
            <a:off x="4211640" y="2279520"/>
            <a:ext cx="4932360" cy="457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00080" y="83664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nd we play games with them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48428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P San Juan Bautista.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5572080"/>
            <a:ext cx="1886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20:40:08Z</dcterms:created>
  <dc:creator>Sobremesa</dc:creator>
  <dc:description/>
  <dc:language>en-US</dc:language>
  <cp:lastModifiedBy>Sobremesa</cp:lastModifiedBy>
  <dcterms:modified xsi:type="dcterms:W3CDTF">2011-09-30T22:54:30Z</dcterms:modified>
  <cp:revision>5</cp:revision>
  <dc:subject/>
  <dc:title>Diapositiva 1</dc:title>
</cp:coreProperties>
</file>